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8A6-1E7A-45DF-847B-14B1125D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DB0-201F-479C-A70D-08AA3D8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265-6C7E-492E-B49B-D9C955F8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C4C-9155-406B-9DE9-33959ACB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7A9-5E1B-477B-99EF-5B749B3F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82A-27A0-42FC-899B-0D3E318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D55-5C9D-4DD1-8A99-BD6E2B5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756-669F-4025-AA7D-67F24D8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55C-2956-4C72-B7DE-D61E7EE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26B-B20F-46FC-A3A4-EC40B08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909-687F-4CF4-B86E-7286CAE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4C0-2806-44E7-B199-205F4269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D91F-43B1-41CF-AA9F-804F93AA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model performer/factors effec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49360"/>
            <a:ext cx="8280360" cy="69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istics would they demonst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age of learning are they 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sk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c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ree features of the performance which ar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92280"/>
            <a:ext cx="8280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 of a model perfo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y help you improve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4936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0560" y="54936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92280"/>
            <a:ext cx="828036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rtant that you understand what a model performance is like in the skill you have been developing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to know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epa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cov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skill and how your performance compares (Similarities and Differen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692280"/>
            <a:ext cx="79930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692280"/>
            <a:ext cx="7993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: Internal/Extern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defini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feedback help you during training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692280"/>
            <a:ext cx="7993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: Intrinsic/Extrinsic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motivation help you du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? 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92280"/>
            <a:ext cx="79930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definition of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concentration help you du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? 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hamiltonp</cp:lastModifiedBy>
  <dcterms:modified xsi:type="dcterms:W3CDTF">2011-01-14T13:38:47Z</dcterms:modified>
  <cp:revision>16</cp:revision>
  <dc:subject/>
  <dc:title>Slide 1</dc:title>
</cp:coreProperties>
</file>